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DF6-84E3-4DA2-88BB-4E45C236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ADA-C259-40CE-B6E5-46A3A695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19C-3B71-4D15-9C74-27686209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AC5-6C86-4A89-AF5C-0F63203C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954-E38F-400F-8687-A7FFAC5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3FB-2255-4976-942B-91C716F1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7BB-92A0-47A7-B948-B315409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56C-4F0C-40D7-A020-D8C3B106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8B4-CB44-4D12-BE49-6C7DCFFA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AF9-A658-4A39-A5DB-90B681E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E30-FB25-496C-B843-1FE920A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4F3-A04A-457E-B286-50DC0F4F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14D7-953E-4341-9E04-D4A6CD349E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ιαχωρισμός και ανάληψη ατομικών υποχρεώσεων για κάλυψη επιμέρους θεμάτων κάθε ομάδ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ναζήτηση γενικών πληροφορ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γκέντρωση πληροφοριώ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εξεργασία και καταγραφή των πληροφοριών σε κείμεν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άρτηση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ς ομάδα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o </a:t>
            </a:r>
            <a:r>
              <a:rPr b="1" i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υγκέντρωση φωτογραφικού υλικού από τοπικές δημιουργίες καλλιτεχν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Λήψη συνέντευξης από καλλιτέχ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γραφή αποτελεσμάτων των ερωτηματολογί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ετοιμασία για την δημιουργία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συγκέντρωση υλικών, προετοιμασία εξοπλισμού, δημιουργία σχεδίου, επιλογή του τοίχου κτ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γκέντρωση της ομάδας στο χώρο της προεπιλογής του σχεδί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ημιουργί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βιντεοσκόπιση της διαδικασ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04</cp:lastModifiedBy>
  <dcterms:modified xsi:type="dcterms:W3CDTF">2013-01-15T12:08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